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EE7-82D5-481B-A364-A7D675A4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C1C-7A9B-44B2-B305-D6080DF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2CD-321D-4302-B66E-829FA350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9A9-76FE-43B2-9BA8-B359A219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C10-7856-4332-B104-CCE7A73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3A2-3C7B-4EB3-A4DD-866C5E2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27B-65F7-4F32-BD90-BAAD1DE3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CC3-F1AB-40D5-85DE-7786E4A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C8F-56A9-461D-BB31-A9B30198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27B-EBF2-4249-83BD-F36034F2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FC7-7358-48DD-BB52-0B62494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A3C-73BB-42D1-93C3-DE18BFC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24B-CCB1-4749-861B-04F644358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lobalnerdy.com/wordpress/wp-content/uploads/2008/10/curve_right_sign.jpg&amp;imgrefurl=http://www.globalnerdy.com/2008/10/17/company-man-or-the-new-job/&amp;usg=__QmVNFzDMjqoulOVQlW7xLmsXaC8=&amp;h=375&amp;w=500&amp;sz=29&amp;hl=en&amp;start=1&amp;sig2=lZeEk3RkoMFUCRAqvG62bQ&amp;zoom=1&amp;itbs=1&amp;tbnid=gQXDW6ZW8NsV0M:&amp;tbnh=98&amp;tbnw=130&amp;prev=/images%3Fq%3Dto%2Bthe%2Bright%2Bsign%26hl%3Den%26gbv%3D2%26tbs%3Disch:1&amp;ei=jMYuTYjPDsGblgfs863CCQ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lobalnerdy.com/wordpress/wp-content/uploads/2008/10/curve_right_sign.jpg&amp;imgrefurl=http://www.globalnerdy.com/2008/10/17/company-man-or-the-new-job/&amp;usg=__QmVNFzDMjqoulOVQlW7xLmsXaC8=&amp;h=375&amp;w=500&amp;sz=29&amp;hl=en&amp;start=1&amp;sig2=lZeEk3RkoMFUCRAqvG62bQ&amp;zoom=1&amp;itbs=1&amp;tbnid=gQXDW6ZW8NsV0M:&amp;tbnh=98&amp;tbnw=130&amp;prev=/images%3Fq%3Dto%2Bthe%2Bright%2Bsign%26hl%3Den%26gbv%3D2%26tbs%3Disch:1&amp;ei=jMYuTYjPDsGblgfs863CCQ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לים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3-3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שר  /   טלפון  ציבורי  /   איך ?  /  ימינה  /   שמאלה /  כולם  /   נוסעים /  הוא  נוס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אי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להי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3773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מי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66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ימינה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79856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שמאל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333399"/>
                </a:solidFill>
                <a:latin typeface="Arial"/>
              </a:rPr>
              <a:t>כולם</a:t>
            </a:r>
            <a:r>
              <a:rPr b="1" lang="he-IL" sz="8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3059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כול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אוהב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סבת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יהוד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נוסע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71800" y="18478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אוט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נוס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שלג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6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נוס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באוטוב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577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נוס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לטיו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36100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.....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16192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ך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__ __ __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יש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857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he-IL" sz="5400" spc="-1" strike="noStrike">
                <a:solidFill>
                  <a:srgbClr val="99cc00"/>
                </a:solidFill>
                <a:latin typeface="Arial"/>
              </a:rPr>
              <a:t>__ __ __ __ __ 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ציבור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3614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ד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עוב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אי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4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_ _ _ _ _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ימינ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8108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99cc00"/>
                </a:solidFill>
                <a:latin typeface="Arial"/>
              </a:rPr>
              <a:t>__ __ __ __ __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שמאל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1520" y="22096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__ __ __ __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65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כול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305920" cy="35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אוט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__ __ __ __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ב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שלג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נוס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6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__ __ __ __ __ _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טי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נוסעי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10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857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הולכ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ה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ישר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10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3614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</a:t>
            </a: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מד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400" spc="-1" strike="noStrike">
                <a:solidFill>
                  <a:srgbClr val="333399"/>
                </a:solidFill>
                <a:latin typeface="Arial"/>
              </a:rPr>
              <a:t>בטלפ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808080"/>
                </a:solidFill>
                <a:latin typeface="Arial"/>
              </a:rPr>
              <a:t>גם הם</a:t>
            </a:r>
            <a:r>
              <a:rPr b="0" lang="he-IL" sz="60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מדברים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ב</a:t>
            </a: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טלפון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he-IL" sz="5400" spc="-1" strike="noStrike">
                <a:solidFill>
                  <a:srgbClr val="99cc00"/>
                </a:solidFill>
                <a:latin typeface="Arial"/>
              </a:rPr>
              <a:t>ציבורי</a:t>
            </a:r>
            <a:r>
              <a:rPr b="0" lang="he-IL" sz="8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יך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333399"/>
                </a:solidFill>
                <a:latin typeface="Arial"/>
              </a:rPr>
              <a:t>דב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עוב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4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9:25:08Z</dcterms:created>
  <dc:creator>Preferred Customer</dc:creator>
  <dc:description/>
  <dc:language>en-US</dc:language>
  <cp:lastModifiedBy>aschlezinger</cp:lastModifiedBy>
  <dcterms:modified xsi:type="dcterms:W3CDTF">2011-01-17T18:58:31Z</dcterms:modified>
  <cp:revision>2</cp:revision>
  <dc:subject/>
  <dc:title>שיעור  1    מילים   23-30  </dc:title>
</cp:coreProperties>
</file>